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335-6AC7-4226-9B0F-AC5549FE4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9B0-38B9-4D18-9236-B678677A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A26A-CA68-4731-AED5-54309161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73BB-A5A0-410A-9E9C-044EC1F0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92B-CEDF-4004-BFD0-311444F0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7BEE-A41F-419E-9090-813CBC52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2EE-7F70-4AF3-9179-429BC794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25D-AD01-4E6B-A42A-11F1C493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D2D-A5BC-4950-AA2B-A236D61B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68BA-2D27-415A-B92F-6FF260C5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9D0-1B79-4678-99E5-736D3F32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3E0-ED87-487B-A8EA-20A8EC33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4B63-151A-4D0E-AA6C-F072D84B30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Languages_-_a_revolution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int.org/features/2014/06/01/keynote-minority-language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63760" y="1052640"/>
            <a:ext cx="5484960" cy="37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Quiz about minority language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17604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41200" y="260280"/>
            <a:ext cx="2975040" cy="525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63760" y="5370480"/>
            <a:ext cx="59007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 you think?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981000"/>
            <a:ext cx="8424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country is Galicia part o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France / Spain /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How many people in the world speak Galicia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.5 million / 2,500 / 2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. How many years have Aborigines lived in Australia? 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 500,000 / 50,000 / 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. What % of US drugs come from native remedies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80% / 50% / 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. How many years ago did humans first start using languag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,500,000 / 150,000 / 15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7456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. About how many languages are there now in the world? 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0 / 700 /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. How many languages do linguists think we could have in 100 years? 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600 / 60 /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. When did French become the standard language of France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14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6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/ 18</a:t>
            </a:r>
            <a:r>
              <a:rPr b="0" lang="en-GB" sz="3200" spc="-1" strike="noStrike" baseline="30000">
                <a:solidFill>
                  <a:srgbClr val="7030a0"/>
                </a:solidFill>
                <a:latin typeface="Calibri"/>
              </a:rPr>
              <a:t>th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9. How many people speak Sami (from Scandinavia / Russia)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200,000 / 20,000 / 2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0. How many official local languages are there in Zambia?  </a:t>
            </a: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700 / 70 /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 this to find the answers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Languages_-_a_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1762200" y="2781360"/>
            <a:ext cx="5619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Key: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.5 mill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5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5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7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7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8. 18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entu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9. 20,00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0. 7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Now read the original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features/2014/06/01/keynote-minority-langu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33320" y="5013360"/>
            <a:ext cx="26971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8T09:44:50Z</dcterms:created>
  <dc:creator>Linda Ruas</dc:creator>
  <dc:description/>
  <dc:language>en-US</dc:language>
  <cp:lastModifiedBy>Linda Ruas</cp:lastModifiedBy>
  <dcterms:modified xsi:type="dcterms:W3CDTF">2014-06-08T11:47:25Z</dcterms:modified>
  <cp:revision>6</cp:revision>
  <dc:subject/>
  <dc:title>Quiz about minority languages</dc:title>
</cp:coreProperties>
</file>